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77F-8821-46DB-BA9B-077347EA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865-B83B-4E87-B270-FD90D07C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621-10DC-438B-8349-65AB1218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4A2-A849-4158-A53D-F6549441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78B-3586-410F-8337-0A0DBF98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12B-EBA6-469D-BD8E-60BB02E1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DFA-61B5-481D-81CB-F09F0D6B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60A-CD54-43F5-8B87-90AAC935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C8B-CE3D-4D51-963C-C5A46914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929-6465-488B-B429-D6B4692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4C4-E511-4019-A0B3-FC6B3C30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D73-C666-40DE-B595-B6D6363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5B78-51F9-45E0-9C24-E5E1F60AE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4-3 Naming Compounds/Writing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9144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cribing Ionic Comp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447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ame of an ionic compoun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ust distinguish the compound from other ionic compounds containing the same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209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rmula of an ionic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ompound describes the ratio of ions in the comp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819520"/>
            <a:ext cx="8305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Ionic Compound: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ade from only 2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aming binar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ompounds easy:  cation comes first, then the a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733920"/>
            <a:ext cx="7467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*Remember, the nam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for the anion uses part of the name of the non metal with the suffix –ide.  (see figure 16 on page 1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tion nam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s just the name of the me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als with multiple 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762120"/>
            <a:ext cx="8381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ransition metal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form more than one type of 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X: Copper with 1+ char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per with 2+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opper (I) ion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  copper (II)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0574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man numeral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dicate the charge of the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438280"/>
            <a:ext cx="76197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riting the formulas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ust balance out the ion charg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copper one oxide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 because it takes two Cu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1+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to balance the O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2-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81280"/>
            <a:ext cx="830592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lyatomic 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valently bonde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group of atoms that has a positve or negative charge AND acts as on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stl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nions (meaning they have a – cha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figure 18 (draw into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arenthesis in a formul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dicate a polyatomic ion is included:  Fe(</a:t>
            </a: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OH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at this means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at a polyatomic ion made up of 3 hydroxide (OH) ions bonded to one iron 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2193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riting formulas for Ionic comp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676520"/>
            <a:ext cx="845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ut th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ation symbol first, then the anion symbo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se subscript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o show the ratio of the ions in the comp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otal charg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f the compound is ne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200400"/>
            <a:ext cx="792504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Sulfur (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gains 2 e-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acts with sodium (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loses one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re must b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2 sodium ions (Na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) for each sulfide ion (S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2-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o balance out the charges ….so Na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4:03:33Z</dcterms:created>
  <dc:creator>Farwell Area Schools</dc:creator>
  <dc:description/>
  <dc:language>en-US</dc:language>
  <cp:lastModifiedBy>Customer</cp:lastModifiedBy>
  <dcterms:modified xsi:type="dcterms:W3CDTF">2009-11-03T13:46:14Z</dcterms:modified>
  <cp:revision>9</cp:revision>
  <dc:subject/>
  <dc:title>Note Guide 4-3 Naming Compounds/Writing formulas</dc:title>
</cp:coreProperties>
</file>